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8E1-B83E-4B92-A2F4-AEC41AF5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594B-3B28-4E22-9035-802884EF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D529-1BE2-4D1A-9F84-7C6FC512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832-277F-4244-881F-C96DC9DB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4805-A8D4-474E-BF6F-5078FB20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BAE6-9DE6-4744-8FB7-C93A632A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B2A6-3E5B-4FA3-9B01-C3F44EB3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9744-804E-40CD-AD79-7DD5F533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4284-EE9A-4C01-B6DE-125A255A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ACF5-FFCE-4538-86A4-6C85A905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F42B-DCFF-4E94-B218-B38D3AB1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B651-B926-456A-B68B-35BC4AA9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B3D1-87EF-4EEE-9D73-A7D23AFF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248F-4BEA-4ED9-AE9D-5C63D4FF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46D1-E454-4328-924A-6F9BB68D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E1A4-6697-49C4-B4D5-FF90BE35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4091-5890-44D2-9CBD-3F2C151B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5667-C8D7-48DF-ACA8-F3B6C55A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5F4-CEC8-42E6-82C5-8A09E4BD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F06-AB0A-4233-98EF-3505CF24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43CA-A801-4835-820C-FA07B5EC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4796-8ACC-4F73-A142-1D518DB3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CD9-441A-45F4-B030-C2A74A17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E51-1910-46D3-8D23-889A6123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F3C6-E81B-4C7E-8BA1-334DDA31296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91F1-3CCF-45D5-B664-082A9D28CF7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Vietnam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exa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a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30956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liday Te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505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od-Watermelon and sweet rice cakes.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t is celebrated because of a series of wars in the Vietnam W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2133360" cy="2743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162920" y="228600"/>
            <a:ext cx="1752480" cy="1295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50120" y="48322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like thes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information on Te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thing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ar red to symbolize Good lu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holiday is celebrated in late Janua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057400"/>
            <a:ext cx="3200400" cy="2895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99280" y="5213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edi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exa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a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ietnam’s Hist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has been hard for Vietnam because of a lot of wars.China controlled the northern part until 939(that’s over 1,000 years ago).They have a holiday called Tet to celebrate a series of battles in the Vietnam War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10080" y="4038480"/>
            <a:ext cx="4038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etnam is a small country, shaped like an 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s capital is Hano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s bordering countries are Laos, China, Thailand, and Cambod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292428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505560" y="990720"/>
            <a:ext cx="1266840" cy="4597200"/>
          </a:xfrm>
          <a:custGeom>
            <a:avLst/>
            <a:gdLst/>
            <a:ahLst/>
            <a:rect l="l" t="t" r="r" b="b"/>
            <a:pathLst>
              <a:path w="798" h="2896">
                <a:moveTo>
                  <a:pt x="311" y="0"/>
                </a:moveTo>
                <a:cubicBezTo>
                  <a:pt x="297" y="89"/>
                  <a:pt x="256" y="170"/>
                  <a:pt x="236" y="258"/>
                </a:cubicBezTo>
                <a:cubicBezTo>
                  <a:pt x="216" y="345"/>
                  <a:pt x="205" y="458"/>
                  <a:pt x="153" y="534"/>
                </a:cubicBezTo>
                <a:cubicBezTo>
                  <a:pt x="141" y="570"/>
                  <a:pt x="120" y="600"/>
                  <a:pt x="103" y="634"/>
                </a:cubicBezTo>
                <a:cubicBezTo>
                  <a:pt x="86" y="668"/>
                  <a:pt x="83" y="702"/>
                  <a:pt x="61" y="734"/>
                </a:cubicBezTo>
                <a:cubicBezTo>
                  <a:pt x="35" y="815"/>
                  <a:pt x="0" y="934"/>
                  <a:pt x="94" y="960"/>
                </a:cubicBezTo>
                <a:cubicBezTo>
                  <a:pt x="115" y="1018"/>
                  <a:pt x="217" y="1074"/>
                  <a:pt x="270" y="1118"/>
                </a:cubicBezTo>
                <a:cubicBezTo>
                  <a:pt x="338" y="1175"/>
                  <a:pt x="361" y="1258"/>
                  <a:pt x="412" y="1327"/>
                </a:cubicBezTo>
                <a:cubicBezTo>
                  <a:pt x="425" y="1367"/>
                  <a:pt x="459" y="1396"/>
                  <a:pt x="478" y="1435"/>
                </a:cubicBezTo>
                <a:cubicBezTo>
                  <a:pt x="490" y="1458"/>
                  <a:pt x="498" y="1488"/>
                  <a:pt x="512" y="1510"/>
                </a:cubicBezTo>
                <a:cubicBezTo>
                  <a:pt x="533" y="1541"/>
                  <a:pt x="559" y="1569"/>
                  <a:pt x="579" y="1602"/>
                </a:cubicBezTo>
                <a:cubicBezTo>
                  <a:pt x="586" y="1613"/>
                  <a:pt x="589" y="1625"/>
                  <a:pt x="595" y="1636"/>
                </a:cubicBezTo>
                <a:cubicBezTo>
                  <a:pt x="603" y="1650"/>
                  <a:pt x="611" y="1664"/>
                  <a:pt x="620" y="1677"/>
                </a:cubicBezTo>
                <a:cubicBezTo>
                  <a:pt x="645" y="1714"/>
                  <a:pt x="681" y="1754"/>
                  <a:pt x="704" y="1794"/>
                </a:cubicBezTo>
                <a:cubicBezTo>
                  <a:pt x="723" y="1826"/>
                  <a:pt x="743" y="1858"/>
                  <a:pt x="754" y="1894"/>
                </a:cubicBezTo>
                <a:cubicBezTo>
                  <a:pt x="767" y="1935"/>
                  <a:pt x="772" y="1976"/>
                  <a:pt x="796" y="2011"/>
                </a:cubicBezTo>
                <a:cubicBezTo>
                  <a:pt x="793" y="2131"/>
                  <a:pt x="798" y="2251"/>
                  <a:pt x="787" y="2370"/>
                </a:cubicBezTo>
                <a:cubicBezTo>
                  <a:pt x="786" y="2380"/>
                  <a:pt x="769" y="2380"/>
                  <a:pt x="762" y="2387"/>
                </a:cubicBezTo>
                <a:cubicBezTo>
                  <a:pt x="721" y="2428"/>
                  <a:pt x="723" y="2444"/>
                  <a:pt x="670" y="2479"/>
                </a:cubicBezTo>
                <a:cubicBezTo>
                  <a:pt x="662" y="2485"/>
                  <a:pt x="645" y="2496"/>
                  <a:pt x="645" y="2496"/>
                </a:cubicBezTo>
                <a:cubicBezTo>
                  <a:pt x="634" y="2513"/>
                  <a:pt x="623" y="2529"/>
                  <a:pt x="612" y="2546"/>
                </a:cubicBezTo>
                <a:cubicBezTo>
                  <a:pt x="606" y="2554"/>
                  <a:pt x="595" y="2571"/>
                  <a:pt x="595" y="2571"/>
                </a:cubicBezTo>
                <a:cubicBezTo>
                  <a:pt x="584" y="2605"/>
                  <a:pt x="569" y="2609"/>
                  <a:pt x="537" y="2621"/>
                </a:cubicBezTo>
                <a:cubicBezTo>
                  <a:pt x="522" y="2636"/>
                  <a:pt x="510" y="2656"/>
                  <a:pt x="495" y="2671"/>
                </a:cubicBezTo>
                <a:cubicBezTo>
                  <a:pt x="488" y="2678"/>
                  <a:pt x="477" y="2681"/>
                  <a:pt x="470" y="2688"/>
                </a:cubicBezTo>
                <a:cubicBezTo>
                  <a:pt x="460" y="2698"/>
                  <a:pt x="456" y="2712"/>
                  <a:pt x="445" y="2721"/>
                </a:cubicBezTo>
                <a:cubicBezTo>
                  <a:pt x="425" y="2737"/>
                  <a:pt x="395" y="2733"/>
                  <a:pt x="370" y="2738"/>
                </a:cubicBezTo>
                <a:cubicBezTo>
                  <a:pt x="362" y="2743"/>
                  <a:pt x="354" y="2750"/>
                  <a:pt x="345" y="2754"/>
                </a:cubicBezTo>
                <a:cubicBezTo>
                  <a:pt x="334" y="2759"/>
                  <a:pt x="321" y="2756"/>
                  <a:pt x="311" y="2763"/>
                </a:cubicBezTo>
                <a:cubicBezTo>
                  <a:pt x="239" y="2812"/>
                  <a:pt x="349" y="2771"/>
                  <a:pt x="270" y="2796"/>
                </a:cubicBezTo>
                <a:cubicBezTo>
                  <a:pt x="214" y="2834"/>
                  <a:pt x="284" y="2792"/>
                  <a:pt x="186" y="2821"/>
                </a:cubicBezTo>
                <a:cubicBezTo>
                  <a:pt x="168" y="2826"/>
                  <a:pt x="154" y="2840"/>
                  <a:pt x="136" y="2846"/>
                </a:cubicBezTo>
                <a:cubicBezTo>
                  <a:pt x="90" y="2877"/>
                  <a:pt x="131" y="2855"/>
                  <a:pt x="53" y="2871"/>
                </a:cubicBezTo>
                <a:cubicBezTo>
                  <a:pt x="35" y="2875"/>
                  <a:pt x="3" y="2896"/>
                  <a:pt x="3" y="289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809880" y="1523880"/>
            <a:ext cx="2743200" cy="10670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s rivers are the Red River and the Mekong River and its sea is the South China Se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 has a lot of mountain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is a picture the Mekong riv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3581640" cy="3048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>
            <a:off x="8534160" y="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153280" y="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5867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59436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mate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 - Subtrop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th - Wet dry periods, also subtrop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icture of a dry perio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191120" cy="2971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>
            <a:off x="3429000" y="4266720"/>
            <a:ext cx="1600200" cy="838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ople and Culture       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ey -  D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guage - Vietname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gion - Buddhism, Roman Catholicis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047760" cy="4216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64880" y="44974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etnamese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876920" y="4495320"/>
            <a:ext cx="114300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98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98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du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a lot of children in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05320" y="1676520"/>
            <a:ext cx="3809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09720" y="18288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ce, chopped vegetables, meat and fis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64832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do they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5029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fish and plant 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343400" cy="281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53000" y="4191120"/>
            <a:ext cx="35910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8:34:40Z</dcterms:created>
  <dc:creator>abelanger</dc:creator>
  <dc:description/>
  <dc:language>en-US</dc:language>
  <cp:lastModifiedBy>abelanger</cp:lastModifiedBy>
  <dcterms:modified xsi:type="dcterms:W3CDTF">2007-05-17T17:38:19Z</dcterms:modified>
  <cp:revision>12</cp:revision>
  <dc:subject/>
  <dc:title>Vietnam</dc:title>
</cp:coreProperties>
</file>